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0D5-AADD-4D88-B881-6072E972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1D0-51A8-4D39-A639-95CAB9DF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C9F-CD86-4C9D-82FE-EF0950A7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022-CFB6-4E70-95DC-29412F26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F675-94A7-4AA9-9ECB-699F4D02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4E0-DC73-4256-B740-A5D0691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F37-FCFC-4B96-90C5-F9612A48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75CD-424D-4937-AD54-68210C6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C0D3-7B03-44F1-9CF0-580C214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ECA-A5DE-49AB-8095-46A72713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6D24-B264-446D-BF75-F29B064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EB9-F5C5-4532-987B-0753C73A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1C79-B599-4E98-AB99-DC8BE55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931E-F7A3-4943-846F-BA992E6C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362C-F244-4A03-BF71-B8AEBD9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82AC-0620-410B-9DBF-90F41D5C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9BB-EA84-45F8-A8C2-A9353B0D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626-4306-42E8-9412-67F008AE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712-4B0C-452A-985E-645D83D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998-064C-4FD7-B381-4634D59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3D9-0D4B-44E3-ACD8-701506CE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094-11F4-483B-B6B4-7F1E30BA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015-E17B-4961-B215-5D44A0D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F5E-1917-4576-B336-13082070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0E62-1F38-4F61-93A9-22EE7470F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89B-69B6-43A3-B4BA-64E42183D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ing Student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nding the resources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an R. Odden and Sarah J. Archib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review - Good to Great: Social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Office/Superintendent Interview and Re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develop specific questions in class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send me question answers so can be posted anonym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4 page reflection on what you learned and made you think about for you as a school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Development Plan and 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a PD plan that will encompass the 6 ke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onduct an audit p.109 thinking about the 6 resource are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 on what resource allocation decisions you would need to make this a viable plan for your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 Steps to Doubling Student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Understanding the performance problem and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t ambitious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hange the curriculum program and create a new instruc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Formative assessments and data-based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Ongoing, intensive profess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Using time efficiently and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Extending learning time for struggl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Collaborative, professional culture (P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Widespread and distributed instructional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Professional and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3 groups of 3 and 2 groups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assign your group 2 of the 10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presenting out each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the step is and helpful ins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hallenge yourself to apply it to your loc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use this step at your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give a local ex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Four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ing Class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ocating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ocating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wid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ctwid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 for effective profession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Professional Development = change in teachers’ instructional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uration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llective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-development fiscal and program aud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time fo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uring the school day and year for collaborative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al C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ellaneous resources for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ding Extra-Help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and small-group tu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Seven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ing School Finance Adequacy to Doubling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meant b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finance adequ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e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your school does in these two ar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oing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need to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One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ral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you gain for your s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-Sized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you gain for your s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Minority, High-Poverty 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you gain for your s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Two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ucational Chang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to improve student achie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organizational chan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aying foundation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reating a new educational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mplementing, monitoring, and continuously impr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ure to improve student achie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what success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you are already at schools that are considered success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at determ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challenge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ing foundation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quote from page 49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assessment or self-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you do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you don’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understanding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C? - not tradit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ng a new educational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quote page 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ing, scheduling, and staffing the schools according to the imperatives of their new educational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is schools would have not known what resources to drop and what resources t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your current educational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way you allocate your resources at the school reflect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, monitoring, and continuous impr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unds pretty straight-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ime to write down five different programs at you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ere they imple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they monito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know they are ef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rives programs to be adjusted or chang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what you wrote down with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you answer all the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questions are you struggling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how you could begin to start answering some of those questions about your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ome of the programs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3440" y="52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9:59:45Z</dcterms:created>
  <dc:creator>USF User</dc:creator>
  <dc:description/>
  <dc:language>en-US</dc:language>
  <cp:lastModifiedBy>USF User</cp:lastModifiedBy>
  <dcterms:modified xsi:type="dcterms:W3CDTF">2009-10-31T00:04:20Z</dcterms:modified>
  <cp:revision>7</cp:revision>
  <dc:subject/>
  <dc:title>Doubling Student Performance . . . and finding the resources to do it</dc:title>
</cp:coreProperties>
</file>